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6FC-9E71-4778-A0BC-A9DB7933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502-5292-40E2-A9DC-E07A0590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515-31F9-4359-ADC3-41F9EF8C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DF6-2806-4E0D-AF98-0BF3A2F9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2FC-4F30-4AC4-8A46-A15CCF5B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EFB9-07A3-4FA6-B788-F64BD655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528-223B-4137-9237-EBF0EA43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83F-C8B5-4936-A1EF-A8E53305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2B8-05F4-442D-A7D5-44D1AA0B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684-13C0-4A68-AF19-3163DDCB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DFC-D656-45D1-B74A-9A6E53F2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4F8-87A3-4215-A829-3F94CF28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B451-8E40-4BE7-A7A6-815533139E4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Tourism Developme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Tourist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urist indust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grown rapidly over the last 50 years thanks to things like the cheaper air travel, increased leisure time and increased disposable inco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ow one of the largest industries in the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Growth In 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rowth in tourism has brought many benefits, but also has caused proble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r resorts and areas have grown rapidly, only to find that they are almost being over-run by touris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areas that have relied on a natural resource to bring in tourists are suddenly finding that the huge numbers are beginning to threaten the very environment that attracted them there in the first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0:45:37Z</dcterms:created>
  <dc:creator>Dell_02</dc:creator>
  <dc:description/>
  <dc:language>en-US</dc:language>
  <cp:lastModifiedBy>Dell_02</cp:lastModifiedBy>
  <dcterms:modified xsi:type="dcterms:W3CDTF">2011-01-27T00:47:26Z</dcterms:modified>
  <cp:revision>1</cp:revision>
  <dc:subject/>
  <dc:title>Tourism Development</dc:title>
</cp:coreProperties>
</file>